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02C-A64C-4EEC-8F76-AB1D7BAD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14E-310E-4311-A294-118D92F4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1A05-1310-4EF1-86A3-591F4B5E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416-7B3E-4705-944D-E79AFA17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36CA-6AD5-4516-8C25-BF215AE8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8C2-744B-4145-8D52-C3F9F02F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963-DFEE-4AC6-A012-1536869A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873-7FDC-49A3-9DD6-1690DEA4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326-9211-47DA-85A9-F1060D26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7DB5-3BA2-482B-8B04-0C4CFED3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60D-8492-4F1A-9555-101B9A5A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7956-443E-42CF-9948-A33740A4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E6B9-150E-41E1-A8DA-3B4EA893DFF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d7d7ff"/>
                </a:solidFill>
                <a:latin typeface="Times New Roman"/>
                <a:cs typeface="ALAWI-3-4"/>
              </a:rPr>
              <a:t>النصيحة بجم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417672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cc"/>
                </a:solidFill>
                <a:latin typeface="Times New Roman"/>
                <a:cs typeface="FS_Free"/>
              </a:rPr>
              <a:t>الجزء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20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لابد من شيء من المخاطرة المحسوبة، من أجل ا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000" spc="-1" strike="noStrike">
                <a:solidFill>
                  <a:srgbClr val="666699"/>
                </a:solidFill>
                <a:latin typeface="Times New Roman"/>
                <a:cs typeface="Andalus"/>
              </a:rPr>
              <a:t>النصيحة بجم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جزء الث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ff"/>
            </a:gs>
            <a:gs pos="100000">
              <a:srgbClr val="6e7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64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استرخِ، حتى في أحلك الظرو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53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d9a1"/>
                </a:solidFill>
                <a:latin typeface="Times New Roman"/>
                <a:cs typeface="FS_Free"/>
              </a:rPr>
              <a:t>احرص على العمل بروح الفري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257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129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نكتة عابرة تشيع البهجة لدى الجمي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832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481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FS_Free"/>
              </a:rPr>
              <a:t>عبر عن نفسك بطرائق مبتكر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00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68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كن يقظًا </a:t>
            </a:r>
            <a:r>
              <a:rPr b="1" lang="ar-SA" sz="3200" spc="-1" strike="noStrike">
                <a:solidFill>
                  <a:srgbClr val="336699"/>
                </a:solidFill>
                <a:latin typeface="Times New Roman"/>
                <a:cs typeface="FS_Free"/>
              </a:rPr>
              <a:t>دائمًا</a:t>
            </a:r>
            <a:r>
              <a:rPr b="1" lang="ar-SA" sz="2800" spc="-1" strike="noStrike">
                <a:solidFill>
                  <a:srgbClr val="336699"/>
                </a:solidFill>
                <a:latin typeface="Times New Roman"/>
                <a:ea typeface="FS_Free"/>
              </a:rPr>
              <a:t> لمواجهة المفاجآ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112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5832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9900"/>
                </a:solidFill>
                <a:latin typeface="Times New Roman"/>
                <a:cs typeface="FS_Free"/>
              </a:rPr>
              <a:t>أشْرِك الآخرين في المغنم أيضً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473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2f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الأمور الطيبة تحدث للطيب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519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ليكن لك من اسمك نصي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240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e89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FS_Free"/>
              </a:rPr>
              <a:t>                             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الصديق وقت الضي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3611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تمسك بأصدقائك الأوفياء، فهم قليلون هذه الأيا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329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0066"/>
                </a:solidFill>
                <a:latin typeface="Times New Roman"/>
                <a:cs typeface="ALAWI-3-4"/>
              </a:rPr>
              <a:t>تشكرات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ee9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ثِق في قدرات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201680"/>
            <a:ext cx="60483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8500"/>
            </a:gs>
            <a:gs pos="100000">
              <a:srgbClr val="6666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43280" y="549360"/>
            <a:ext cx="41040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imes New Roman"/>
                <a:cs typeface="FS_Free"/>
              </a:rPr>
              <a:t>كن شجاعً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393920"/>
            <a:ext cx="56894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e9f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4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تكيف مع الظروف مهما كانت صعب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3320" y="198108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0920" y="475920"/>
            <a:ext cx="460836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ffaff"/>
                </a:solidFill>
                <a:latin typeface="Times New Roman"/>
                <a:cs typeface="FS_Free"/>
              </a:rPr>
              <a:t>نوِّع في علاقات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4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32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حافظ على هدوئك، حتى في أصعب المواق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ffff"/>
                </a:solidFill>
                <a:latin typeface="Times New Roman"/>
                <a:cs typeface="FS_Free"/>
              </a:rPr>
              <a:t>لابأس بشيء من الدعابة، ففي الحياة مايكفي من المنغص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90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9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أحب أصدقاءك كما هم، لاكما تريد أن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</cp:lastModifiedBy>
  <dcterms:modified xsi:type="dcterms:W3CDTF">2006-05-13T08:30:55Z</dcterms:modified>
  <cp:revision>9</cp:revision>
  <dc:subject/>
  <dc:title>PowerPoint Presentation</dc:title>
</cp:coreProperties>
</file>