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41169-5051-448C-9A40-7F253F83D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62F81-BAAE-4A41-9568-E956CB02A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57D8F-9FDE-4D4D-B3F7-33A8C3AE3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20441-A1A5-4A90-8AAE-9908B3AA4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193E9-883D-4C07-BB9F-45A449962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13EB8-34C3-403B-8169-9E50BE0EA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29AD3-402A-4E42-9F53-1298A9627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FB819-B5AA-47CE-86ED-67E22CE4C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E8B67-C5B3-4435-A998-F6EB7E252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289E0-52EB-401F-81C6-0529FFAA8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64870-B822-4D30-8138-B8FD9B4E8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CA21E-C9AC-47D5-9EAB-FA7B170BD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CC101-4ADE-4F02-9B82-13061A5E4913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557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d7d7ff"/>
                </a:solidFill>
                <a:latin typeface="Times New Roman"/>
                <a:cs typeface="ALAWI-3-4"/>
              </a:rPr>
              <a:t>النصيحة بجمل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411280" y="3645000"/>
            <a:ext cx="417672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3333cc"/>
                </a:solidFill>
                <a:latin typeface="Times New Roman"/>
                <a:cs typeface="FS_Free"/>
              </a:rPr>
              <a:t>الجزء الأو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6b19c"/>
            </a:gs>
            <a:gs pos="100000">
              <a:srgbClr val="66301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6560" y="549000"/>
            <a:ext cx="7201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e3ffff"/>
                </a:solidFill>
                <a:latin typeface="Times New Roman"/>
                <a:cs typeface="FS_Free"/>
              </a:rPr>
              <a:t>لابد من شيء من المخاطرة المحسوبة، من أجل النجاح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763640" y="1557360"/>
            <a:ext cx="576108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1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3ffff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8000" spc="-1" strike="noStrike">
                <a:solidFill>
                  <a:srgbClr val="666699"/>
                </a:solidFill>
                <a:latin typeface="Times New Roman"/>
                <a:cs typeface="Andalus"/>
              </a:rPr>
              <a:t>النصيحة بجمل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6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جزء الثان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4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4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7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ffaff"/>
            </a:gs>
            <a:gs pos="100000">
              <a:srgbClr val="6e73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619280" y="836640"/>
            <a:ext cx="64800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6699"/>
                </a:solidFill>
                <a:latin typeface="Times New Roman"/>
                <a:cs typeface="FS_Free"/>
              </a:rPr>
              <a:t>استرخِ، حتى في أحلك الظروف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195640" y="1844640"/>
            <a:ext cx="453708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5e00"/>
            </a:gs>
            <a:gs pos="100000">
              <a:srgbClr val="ff99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42920" y="33300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d9a1"/>
                </a:solidFill>
                <a:latin typeface="Times New Roman"/>
                <a:cs typeface="FS_Free"/>
              </a:rPr>
              <a:t>احرص على العمل بروح الفريق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050920" y="1484280"/>
            <a:ext cx="525780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1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2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3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58920" y="620640"/>
            <a:ext cx="712944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FS_Free"/>
              </a:rPr>
              <a:t>نكتة عابرة تشيع البهجة لدى الجميع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692360" y="1484280"/>
            <a:ext cx="5832360" cy="42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5e00"/>
            </a:gs>
            <a:gs pos="100000">
              <a:srgbClr val="ff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979280" y="764640"/>
            <a:ext cx="6481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FS_Free"/>
              </a:rPr>
              <a:t>عبر عن نفسك بطرائق مبتكرة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908000" y="1773360"/>
            <a:ext cx="5400720" cy="40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3ffff"/>
            </a:gs>
            <a:gs pos="100000">
              <a:srgbClr val="68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619280" y="475920"/>
            <a:ext cx="648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6699"/>
                </a:solidFill>
                <a:latin typeface="Times New Roman"/>
                <a:cs typeface="FS_Free"/>
              </a:rPr>
              <a:t>كن يقظًا </a:t>
            </a:r>
            <a:r>
              <a:rPr b="1" lang="ar-SA" sz="3200" spc="-1" strike="noStrike">
                <a:solidFill>
                  <a:srgbClr val="336699"/>
                </a:solidFill>
                <a:latin typeface="Times New Roman"/>
                <a:cs typeface="FS_Free"/>
              </a:rPr>
              <a:t>دائمًا</a:t>
            </a:r>
            <a:r>
              <a:rPr b="1" lang="ar-SA" sz="2800" spc="-1" strike="noStrike">
                <a:solidFill>
                  <a:srgbClr val="336699"/>
                </a:solidFill>
                <a:latin typeface="Times New Roman"/>
                <a:ea typeface="FS_Free"/>
              </a:rPr>
              <a:t> لمواجهة المفاجآت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908000" y="1557360"/>
            <a:ext cx="5112000" cy="39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6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68360" y="620640"/>
            <a:ext cx="583272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9900"/>
                </a:solidFill>
                <a:latin typeface="Times New Roman"/>
                <a:cs typeface="FS_Free"/>
              </a:rPr>
              <a:t>أشْرِك الآخرين في المغنم أيضًا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619280" y="1628640"/>
            <a:ext cx="5473800" cy="38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462f"/>
            </a:gs>
            <a:gs pos="100000">
              <a:srgbClr val="ff99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FS_Free"/>
              </a:rPr>
              <a:t>الأمور الطيبة تحدث للطيبين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3348000" y="1844640"/>
            <a:ext cx="251928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0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FS_Free"/>
              </a:rPr>
              <a:t>ليكن لك من اسمك نصيب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916360" y="1989000"/>
            <a:ext cx="3240000" cy="39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7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4e89c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050560" y="691920"/>
            <a:ext cx="709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FS_Free"/>
              </a:rPr>
              <a:t>                              </a:t>
            </a:r>
            <a:r>
              <a:rPr b="1" lang="ar-SA" sz="3600" spc="-1" strike="noStrike">
                <a:solidFill>
                  <a:srgbClr val="ffff99"/>
                </a:solidFill>
                <a:latin typeface="Times New Roman"/>
                <a:cs typeface="FS_Free"/>
              </a:rPr>
              <a:t>الصديق وقت الضيق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908000" y="1773360"/>
            <a:ext cx="536112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00"/>
            </a:gs>
            <a:gs pos="100000">
              <a:srgbClr val="5e5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e3ffff"/>
                </a:solidFill>
                <a:latin typeface="Times New Roman"/>
                <a:cs typeface="FS_Free"/>
              </a:rPr>
              <a:t>تمسك بأصدقائك الأوفياء، فهم قليلون هذه الأيا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835280" y="1484280"/>
            <a:ext cx="532908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4" dur="80"/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5" dur="80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6" dur="80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75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4360" y="1699920"/>
            <a:ext cx="77724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ff0066"/>
                </a:solidFill>
                <a:latin typeface="Times New Roman"/>
                <a:cs typeface="ALAWI-3-4"/>
              </a:rPr>
              <a:t>تشكرات.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bee9f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00720" y="259920"/>
            <a:ext cx="417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99"/>
                </a:solidFill>
                <a:latin typeface="Times New Roman"/>
                <a:cs typeface="FS_Free"/>
              </a:rPr>
              <a:t>ثِق في قدراتك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619280" y="1201680"/>
            <a:ext cx="6048360" cy="46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48500"/>
            </a:gs>
            <a:gs pos="100000">
              <a:srgbClr val="66663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43280" y="549360"/>
            <a:ext cx="4104000" cy="9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99"/>
                </a:solidFill>
                <a:latin typeface="Times New Roman"/>
                <a:cs typeface="FS_Free"/>
              </a:rPr>
              <a:t>كن شجاعًا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835280" y="1393920"/>
            <a:ext cx="5689440" cy="43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ee9f2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86920" y="1052280"/>
            <a:ext cx="6409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ffaff"/>
                </a:solidFill>
                <a:latin typeface="Times New Roman"/>
                <a:cs typeface="FS_Free"/>
              </a:rPr>
              <a:t>تكيف مع الظروف مهما كانت صعبة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343320" y="1981080"/>
            <a:ext cx="24559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33"/>
            </a:gs>
            <a:gs pos="100000">
              <a:srgbClr val="ff99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50920" y="475920"/>
            <a:ext cx="4608360" cy="9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effaff"/>
                </a:solidFill>
                <a:latin typeface="Times New Roman"/>
                <a:cs typeface="FS_Free"/>
              </a:rPr>
              <a:t>نوِّع في علاقاتك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763640" y="1413000"/>
            <a:ext cx="554508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f0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195280" y="549360"/>
            <a:ext cx="532908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effaff"/>
                </a:solidFill>
                <a:latin typeface="Times New Roman"/>
                <a:cs typeface="FS_Free"/>
              </a:rPr>
              <a:t>حافظ على هدوئك، حتى في أصعب المواقف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619280" y="1557360"/>
            <a:ext cx="583236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b049"/>
            </a:gs>
            <a:gs pos="100000">
              <a:srgbClr val="fc9fcb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87280" y="40428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ffff"/>
                </a:solidFill>
                <a:latin typeface="Times New Roman"/>
                <a:cs typeface="FS_Free"/>
              </a:rPr>
              <a:t>لابأس بشيء من الدعابة، ففي الحياة مايكفي من المنغصات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763640" y="1484280"/>
            <a:ext cx="590400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050560" y="476280"/>
            <a:ext cx="59770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e3ffff"/>
                </a:solidFill>
                <a:latin typeface="Times New Roman"/>
                <a:cs typeface="FS_Free"/>
              </a:rPr>
              <a:t>أحب أصدقاءك كما هم، لاكما تريد أنت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258920" y="1484280"/>
            <a:ext cx="6553080" cy="44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s</cp:lastModifiedBy>
  <dcterms:modified xsi:type="dcterms:W3CDTF">2006-05-13T08:30:55Z</dcterms:modified>
  <cp:revision>9</cp:revision>
  <dc:subject/>
  <dc:title>PowerPoint Presentation</dc:title>
</cp:coreProperties>
</file>