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82D-920C-4C2F-BF71-DF36F1FB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D8C-327B-49E2-93CF-F883B1E8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77A-F5E0-4100-B859-BA069EB2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742-58C1-4000-9243-EF5AEC52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4A4C-1BB2-4CDB-A5BE-2853A976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5F04-026F-472E-ACA1-D96F322C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AC20-8725-4970-8627-F7FF2DF3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4B4A-8505-4CC9-8359-9A8A8F0D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06AB-7198-4A77-A88F-B33B39F8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37E7-F588-4CCF-8617-79708324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88A9-A7D0-4A4A-A6E6-C25A5BCE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897-DE55-4A9F-B2CB-FA93DB4D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2935-1B25-4547-B0A4-02760020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A1E1-1902-4FBF-9AF0-97F1CCF3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1D05-0D89-4B84-9384-ED4D849E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767E-5EB0-4302-AC89-C7A97F5D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9797-7A3A-4D6E-B7E6-B4A204AF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FEF-7D61-438F-A32E-201308F0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93D-047E-4FC7-884A-36640249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E7E-0D6C-4791-8817-4DE3EA9D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CA1-5324-4901-8B75-8D0ADB2C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FDE-54F9-45E3-89EA-3ABBB382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3D5-B2B5-43D2-94E5-C1E979B2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875-C21F-4734-A00A-B5AFC7AC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690840" indent="-26568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06272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48788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191304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36AB-31D2-494A-ACEE-594EE08DB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B688-C498-491C-8638-CD4E5488A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4646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4646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6464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3399"/>
                </a:solidFill>
                <a:latin typeface="Arial"/>
              </a:rPr>
              <a:t>شركة العلم</a:t>
            </a:r>
            <a:endParaRPr b="0" lang="en-US" sz="6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ننسج المعلومة خدمة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3520" y="18637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3399"/>
                </a:solidFill>
                <a:latin typeface="Arial"/>
              </a:rPr>
              <a:t>تم</a:t>
            </a:r>
            <a:br>
              <a:rPr sz="6700"/>
            </a:b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تأكيد الملك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الخدمة التي تقدم السيرة الذاتية لكل سيارة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280" y="2798640"/>
            <a:ext cx="76201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464646"/>
                </a:solidFill>
                <a:latin typeface="Arial"/>
              </a:rPr>
              <a:t>الخدمة التي تخبر بالمالك الحقيقي للسيارة المستعملة قبل شرائها، وعدد الملاك السابقين، ومدد ملكياتهم، والمخالفات المستحقة على البائع والمشتري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قبل 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سي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سرق السيارات وتباع باستمارات مزورة..!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استم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ختفي معلوماتها عند استصدار (بدل فاقد).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وعندما جاءت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464646"/>
                </a:solidFill>
                <a:latin typeface="Arial"/>
              </a:rPr>
              <a:t>معرفة المالك الحقيقي، وعدد الملاك السابقين، ومدد ملكياتهم، والمخالفات المستحقة.. </a:t>
            </a:r>
            <a:r>
              <a:rPr b="0" lang="hi-IN" sz="3200" spc="-1" strike="noStrike">
                <a:solidFill>
                  <a:srgbClr val="ff0000"/>
                </a:solidFill>
                <a:latin typeface="Arial"/>
              </a:rPr>
              <a:t>خلال ثوان معدودة.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1305000"/>
            <a:ext cx="7362720" cy="555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83400" y="315828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-1908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5292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>
            <a:off x="133200" y="625896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Leaf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57520" y="1712880"/>
            <a:ext cx="2752560" cy="384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6320" y="1295280"/>
            <a:ext cx="2435040" cy="42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562720" y="2870280"/>
            <a:ext cx="3504960" cy="26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1522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Roll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603504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p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2195280"/>
            <a:ext cx="792036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شكرا</a:t>
            </a:r>
            <a:br>
              <a:rPr sz="10000"/>
            </a:b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لكم</a:t>
            </a:r>
            <a:endParaRPr b="0" lang="en-US" sz="10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2-17T09:30:05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