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52A-9362-4896-BE6F-4D551EF3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54E-C7E0-4E91-B5FB-1866EA17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07C-580A-4FBC-BFEF-92AEEACE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774-C2A7-428A-87F6-D69CAA12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EA37-6D11-4E59-9D8D-7DBCAA0C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FD6-FCB0-4158-AD15-398F6FBB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D254-D9E3-4ADE-AACF-A457C221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19BA-268E-4938-A47B-31B39D86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4A4-487E-47D4-AF31-B32E0F34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A90-393F-4683-B796-A37FD2EB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14F-10DD-4DAE-9D2B-F8BB4662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595-5043-4614-869F-26CFE5AC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BAA6-F2F4-4B79-915E-408C1316C1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الأصدقاء جواهر نادرة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،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 هم يبهجونك ويساندوك، هم جاهزون لسماعك في أي وقت تحتاجهم هم بجانبك فاتحين قلوبهم لك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.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لذا أرهم مدى حبك لهم أرسل هذه الرسالة للذين ظننت أنهم أصدقاؤك الحقيقيون وغيرها من الرسائل التي تحمل معنى الصداق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5267160" cy="59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(( الشيء الجيد في الصداقة هو معرفة من الذي يمكن أن تستودعه سرك ويقوم بنصحك ))</a:t>
            </a:r>
            <a:br>
              <a:rPr sz="4800"/>
            </a:br>
            <a:r>
              <a:rPr b="0" lang="ar-EG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قرأ هذه الكلمات التالية وتأملها فربما تكون مفيدة لك في حيات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154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520" y="339840"/>
            <a:ext cx="8286840" cy="617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عط الناس أكثر مما يتوقعون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حب بعمق وبصدق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حبك، فلا بد أن تعنيها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بث أو تلهو أبدا بأحلام الآخرين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نا آسف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أنظر لعيني الشخص الذي تكلمه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اقب أو تصدر حكما على الآخرين وفقا لما تسمعه عنهم فق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448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624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كلم ببطء لكن فكر بسرعة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ذا سألك أحدهم سؤالا لا ترغب في اجابته ابتسم واسأله: لماذا ترغب في معرفه الإجابة؟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دائم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طريق الى النجاح الكبير يتضمنه مخاطر كبير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عندما تخسر لا بد أن تستفيد من خسارتك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احترم ثلاث أشياء احترم نفسك، احترم الآخرين، احترم تصرفا</a:t>
            </a:r>
            <a:r>
              <a:rPr b="0" lang="ar-EG" sz="4000" spc="-1" strike="noStrike">
                <a:solidFill>
                  <a:srgbClr val="ff3399"/>
                </a:solidFill>
                <a:latin typeface="Arial"/>
              </a:rPr>
              <a:t>ت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ك وكن مسئولا عنها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00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1520" y="374760"/>
            <a:ext cx="8218440" cy="61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لا تترك أي سوء تفاهم ولو كان صغيرا يدمر الصداقة العظيمة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تدرك أنك اخطأت قم بتصحيح ذلك مباشرة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بتسم عندما ترد على الهاتف، المتصل سوف يشعر بذلك في صوتك اقرأ ما بين الأسطر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أنه في بعض الأحيان، لا تنال ما تريد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ff3399"/>
                </a:solidFill>
                <a:latin typeface="Arial"/>
              </a:rPr>
              <a:t>ربما تكون محظوظا في ذلك اذا وصلت الى نهاية الرسالة، فأنت انسان مذهل، وأتوقع منك ان تعمل بما فيها وترسلها لمن تح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36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9522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38:33Z</dcterms:created>
  <dc:creator>Eman</dc:creator>
  <dc:description/>
  <dc:language>en-US</dc:language>
  <cp:lastModifiedBy>Administrator</cp:lastModifiedBy>
  <dcterms:modified xsi:type="dcterms:W3CDTF">2007-01-29T09:38:05Z</dcterms:modified>
  <cp:revision>4</cp:revision>
  <dc:subject/>
  <dc:title>قصة المسامير:  قصة رائعة ارسلها لمن تحب</dc:title>
</cp:coreProperties>
</file>