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amera.wav" ContentType="audio/x-wav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DEE-75E4-44AA-AA78-FE8F2A58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B5FC-5D58-4FD0-9383-7433DCED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DC9-CA4A-4427-A624-A62E3152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16F-BF22-49BB-9A06-9735E189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8EE3-02CB-45E6-A2B7-E0979CE0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9E55-BD1F-487F-A23C-4E801244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24EF-0890-41D4-89B3-9F6DD46E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21B6-7136-4FAC-BD92-330F1747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387E-8A1A-4985-8B19-4904ECF4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1189-4447-49CB-A7E3-C26E17F9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ECD2-D753-4517-8687-BB100819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1F0F-B284-44CA-9626-DFF90459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CF65-77EC-46C8-BB0C-16BEF9C8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FBC2-AB88-4EAC-BD02-1274C734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2F6C-C8D0-4D6F-A722-B5915DD0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528F-8518-4215-9F58-C9FD9EB3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D52A-0FD4-4206-864A-FEA90713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E79E-D4C3-44EB-89A4-31410E5C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FFC93-A21F-41BB-8B22-08322F21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3E6CB-9AAE-4C59-824F-6D32FA78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BA970-3117-4C31-88F0-9CF0A6B8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9646D-A84F-4650-BFB6-3AFE8C46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0B5-8217-4BD8-89F4-15236F82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79EE2-53C2-4249-B8F8-DFCBE972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B341-AFE0-42D0-AFD5-08492970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1F788-341E-4ED5-A7FE-F35605F8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30FD3-FE2D-4D82-93B7-F1940876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6B9D5-BCDA-40A8-8F05-0E43E418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9244F-61C3-4125-ABDB-8EE175BE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413DC-816D-4B02-AD53-CD440EA4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4DDCFC-37ED-40F8-8F32-FB24D9DE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FA561-5FE9-4C8E-80C2-4C0DC8FD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90660A-4F5F-4D89-A47E-5A0CAF3F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ABA3-86E4-46CB-A802-0C52DB4C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E6C05B-33C5-4B33-8FA4-07B4DB0D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AB473-6AD0-4309-A651-D3B9DA28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B8247B-E5EA-4977-8197-4E4E1371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378A24-7DCD-4755-AF0F-9E2D077F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5AE41C-9617-4564-A3D3-67962099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88EDE-F7F6-46E7-AB91-79675708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B530F-A38A-4AB3-B5C4-37043784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A39FC8-3534-48A2-AFD8-9838F6F9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B3081-9E2B-4650-A184-5E682FE8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8D2-4724-4338-B657-4656B242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8E61-83B4-479B-A05E-546D74FF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B98-54B1-4FFD-BF11-A850EE05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A05-073A-4B6F-8C4C-46126681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96B-0463-40E6-963B-438BB77B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D7E7-9885-4540-8CCD-6846B63C3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4C50-487A-410F-950E-8D8D45DC1E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C6B6-5A4D-42B8-9DDF-0E27E7F4A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F646-C8D1-4ABC-A61D-8686611A9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58920" y="476280"/>
            <a:ext cx="576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2920" y="476280"/>
            <a:ext cx="4105440" cy="34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02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عــام أف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وعــــــام أطـــ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1557360"/>
            <a:ext cx="8207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خليليّ كم من ميت قد حضرته             ولـكــنني لم أنتفـــع بحضـــــوري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ليال قد أرتني عجائبــــاً             لهن وأيام خـــــلت وشهـــــــ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سنـــين قد طوتني كثيرة               وكم من أمور قد جرت وأم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لم يزده السن ما عاش عبرة               فذاك الذي لا يســتنير بنـــــــور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765000"/>
            <a:ext cx="8353440" cy="75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عن ابن عمر رضي الله عنه قا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خذ رسول الله صلى الله عليه وسلم بمنكبي فقا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كن في الدنيا كأنك غريب أو عابر سبيل 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وكان ابن عمر يقو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إذا أمسيت فلا تنتظر الصباح وإذا أصبحت فلا تنتظر المساء 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وخذ من صحتك لمرضك ، ومن حياتك لموتك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رواه البخار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07920"/>
            <a:ext cx="88549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ـطعـــت شهـــور العمــر لـهوا وغـفـــــــلة        ولم تحـــــترم فيمــــــا أتيت المحــــــــــرّ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لا رجــب وافــــــــــيت فـيه بـــحـــــــقه        ولا صمت شهر الصـــوم صوما متم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لا في ليــالي عشر ذي الحــــــــجــة الذي       مضى كنت قـواما ولا كنت محــــــــر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هــــل لك أن تمــــــحي الذنـــــــوب بـعـبرة       وتبكـي عـليها حســرة وتنــــــــــدمــــ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تسـتـــــــقبل العــــــــام الجـــــديـد بتوبـــة       لعـلك أن تمحـوا بـها ما تقـــــــــــــــد مــا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"/>
              </a:rPr>
              <a:t>قيل لنوح عليه السلام، وقد لبث مع قومه ألف سنة إلا خمسين عاماً: كيف رأيت هذه الدنيا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فقال: كداخل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من باب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DecoType Naskh"/>
              </a:rPr>
              <a:t> وخارج من آخر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912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12" autoRev="1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الفرح بقطع الأيام والأعوام دون اعتبار وحساب لما كان فيها ويكون بعد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هو من البيع المغبون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فالعاقل من اتعظ بأمسه، واجتهد في يومه، واستعد لغد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2133720"/>
            <a:ext cx="7127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ن تفكر في عواقب الدنيا أخذ الحذر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أيقن بطول الطريق تأهب للسفر،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ا أعجب أمرك يا من يُوقن بأمر ثم ينساه 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يتحقق ضرراً حالاًَّ ثم يغشاه 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تغلبكَ نفسُك على ما تظن ، ولا تغلبها على ماتستيقن !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1125360"/>
            <a:ext cx="47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قال ابن الجوزي رحمه الله تعا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981000"/>
            <a:ext cx="792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اجعل جل اهتمامك بالآخرة يزح الله به باقي الهموم ليصفو القلب لله تعال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إن كان في بحر من الابتلاء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( من جعل الهموم هما واحدا هم المعاد كفاه الله سائر هموم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تشعبت به الهموم من أحوال الدن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لم يبال الله في أي أوديتها هلك 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333360"/>
            <a:ext cx="82072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تجارة الآخرة لا تبور .. والتهافت على الدنيا لا يغير المقد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 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( من كانت الآخرة همه ،جعل الله غناه في قلبه ، وجمع له شمله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أتته الدنيا وهي راغمة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من كانت الدنيا ه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جعل الله فقره بين عينيه ، وفرق عليه شمل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لم يأته من الدنيا إلا ما قدر ل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560" y="2133720"/>
            <a:ext cx="856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ما مـــــــــضى كان همساتُ مُشْفِــــق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كلماتُ ناصـــــــــــــــح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إن يكن زل لساني عن صواب فاعذروني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أو يكن واقع سوءاً سامحوني </a:t>
            </a: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 الله الله في المسامح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اعذروني على التقصي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77280" y="17161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06676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ونحن في أواخر مراحل هذا العام ولا ندري أندرك عامنا الجديد أم يحول  المنون بيننا وبين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إليك هذه الوقف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أسأل الله تعالى أن تجد لها في قلبك موضعا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692280"/>
            <a:ext cx="46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بسم الله الرحمن الرح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16000" y="1268280"/>
            <a:ext cx="68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يا نفس لله توبي  واستغفري من ذنوبي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قد بدت  شمس عامي  تميل نحو  الغروب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59280" y="3084480"/>
            <a:ext cx="412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95440"/>
            <a:ext cx="792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نسير إلى الآجال في كل لحـظة  *** وأعمارنا تطــوى وهن مــرا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ترحل من الدنيا بزاد من التقى *** فعمـــرك أيـــــــام وهــنّ قــــــلائـ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ما هذه الأيام إلا مــــــراحــل  *** يحث بها حاد إلى الموت قاص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أعجب شيء لو تأملت أنها *** منازل تطـوى والمســـافر قــــاع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6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125360"/>
            <a:ext cx="6912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Traditional Arabic"/>
              </a:rPr>
              <a:t>قال علي بن أبي طالب رضي الله تعالى عن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ارتحلت الدنيا مدبرة وارتحلت الآخرة مقبل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لكل واحدة منها بنون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كونوا من أبناء الآخرة، ولا تكونوا من أبناء الدنيا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فإن اليوم عمل ولا حساب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غداً حساب ولا عمل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خرجه البخاري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3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3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3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3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3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3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333360"/>
            <a:ext cx="82072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بن عياض لرجل : كم أتى عليك ؟ قال : ستون سن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فأنت منذ ستين سنة تسير إلى ربك يوشك أن تبلغ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إنا لله و إنا إليه راجعو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: أتعرف تفسيره تقول : إنا لله و إنا إليه راجعون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من علم أنه لله عبد وأنه إليه راجع فليعلم أنه موقوف ، ومن علم أنه موقوف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ليعلم أنه مسئول ، فليعد للسؤال جوابا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فما الحيلة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يسيرة . قال: ما هي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قال : تحسن فيما بقي يغفر لك ما مضى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إنك إن أسأت فيما بقي ، أُخذت بما مضى وما بقي والأعمال بالخواتيم .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595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60280"/>
            <a:ext cx="7848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34136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أنت تسير في هذه الدنيا .. هناك يوم سيتوقف المسير وتحط بك القافلة ولكن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إذا أنت لم ترحلْ بزادٍ من التقى     ولاقيتَ بعد الموتِ من قد تزود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ندمتَ على ألا تكون كمثـــــــلِه      وأنك لم ترصدْ كما كان أرصد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60280"/>
            <a:ext cx="9144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تمر ســاعـات أيـــامي بلا نــــــــدم           ولا بـكاء ولا خـوف ولا حــــــز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ما أحلم الله عني حيث أمـــهـلني          وقد تمـاديت في ذنبـي ويســـــــــــترنـ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نا الذي أغلق الأبواب مجتهــــــدا          على المعاصي وعين الله تنظــــــــــــرني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نوح على نفسي وأنـدبــهـــا          وأقطع الدهــــــر بالتـــسبيح والحـــز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سح دموعا لا انقطـاع لـها         فهل عسـى عـبـــــرة منـي تخـــــلــصـن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1413000"/>
            <a:ext cx="7848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إنـا لنفرح بالأيام نقطـعــــــــــــــــها      وكل يوم مضى يدني من الأجـل 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اعمل لنفسك قبل الموت مجتهـداً       فـــإنما الربــح والخسران في العمل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3:59:49Z</dcterms:created>
  <dc:creator>Al-Mshikhi</dc:creator>
  <dc:description/>
  <dc:language>en-US</dc:language>
  <cp:lastModifiedBy>sjuhaifa</cp:lastModifiedBy>
  <dcterms:modified xsi:type="dcterms:W3CDTF">2007-01-22T04:32:59Z</dcterms:modified>
  <cp:revision>61</cp:revision>
  <dc:subject/>
  <dc:title>الشريحة 1</dc:title>
</cp:coreProperties>
</file>