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camera.wav" ContentType="audio/x-wav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C7EB-BC85-4431-8995-5BD7FD6F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A0E1-5326-4041-9FD7-468E49B6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18EC-8DFC-4505-9093-34A9B394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F5BE-B1AC-4AA6-9DB5-6B36FAC4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1620-D160-4AF3-AC73-9E50A8CB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0F9C-F913-4805-87EC-6535FCC0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9298-2075-4FD2-996F-37291473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C687-D3FF-4D43-898C-D832C231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AE65-E0C4-4DCD-BA10-A270877A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B366-787D-4BF0-B8DB-62D7A02E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4745-40D6-49EE-A468-9E1C79D3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41A9-9505-4D7C-AFE2-3D14E5F5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9B3B-5B28-4695-948E-D93F557E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4494-1DE7-4EEC-863A-CC1AA012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6387-C9EB-49BE-AD47-BD36868F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BFA8-EC68-4DF7-97C1-3771A578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C1BF-12D8-4AD8-867F-0219E11D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23451-CC7C-4467-AE91-272D1A79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1DCAB-EAF6-4BD0-BC44-38968757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E4E12-8390-465C-B3C3-3991E789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1AE3E-3A7D-4F7B-81A6-680FEAFC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B425E-84A8-4D14-B5DE-7B9EC707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B37F-932F-4291-A089-C05F5E7B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7E997-4114-4A06-90AE-A82097EB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94107-9CD1-4F55-8B9A-A52D7479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58D59-4002-492D-8340-770713EF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56166-972A-4C88-BA8C-EB8A414B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B46E9-6437-47DE-BBFA-B6D5EFA6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6B0C5-F107-40E4-ABEC-42A8DD62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F7556-EC9F-4E32-8590-E45A4083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73C2CF-C068-46E8-9297-3797BA64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6449B3-A933-4245-85E9-3A47E3E1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68FBD0-02B5-4B2D-A65B-DCE04670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E7F3-9A7E-4F82-B464-1566EF7C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B2597B-C859-4CC6-91D0-D6DAC101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592BFC-96D3-47C4-8DC6-30E6B0F2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EE1C66-44B4-49E4-9A66-EBE23FC0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ABA576-BF3B-45CC-ADA7-3E5208F1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35653F-45FE-458C-803A-28A1E7DB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006B4F-7B9A-4919-BD08-E5CBA639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D89C12-FD6C-40ED-9525-6F1E4922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EFCC35-DFAE-4636-9227-EE69B988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5AFAF3-DAEE-4966-8A7B-C72260EE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8554-E1C1-4F98-B2F0-1D94B5BC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F83C-9DF2-46A2-BEE7-945D98E7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B494-E5E2-4439-A7CB-A6C012AA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D1B8-B662-48A0-930A-48429782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B3ED-879C-4AED-BA90-DC4026C1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F111-D10D-46AA-8881-1EFD95F4E0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A275-3F1D-4809-8A09-15BEC62C8C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E0B7-DEB8-4E09-8F1E-D0BE7E8C5E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89C5-3635-402C-842E-4E09E054AB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58920" y="476280"/>
            <a:ext cx="5761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42920" y="476280"/>
            <a:ext cx="4105440" cy="341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102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DecoType Naskh Variants"/>
              </a:rPr>
              <a:t>عــام أفــ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DecoType Naskh Variants"/>
              </a:rPr>
              <a:t>وعــــــام أطـــــ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1557360"/>
            <a:ext cx="82072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خليليّ كم من ميت قد حضرته             ولـكــنني لم أنتفـــع بحضـــــوري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كم من ليال قد أرتني عجائبــــاً             لهن وأيام خـــــلت وشهــــــــور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كم من سنـــين قد طوتني كثيرة               وكم من أمور قد جرت وأمـور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لم يزده السن ما عاش عبرة               فذاك الذي لا يســتنير بنـــــــور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0920" y="765000"/>
            <a:ext cx="8353440" cy="75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عن ابن عمر رضي الله عنه قال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أخذ رسول الله صلى الله عليه وسلم بمنكبي فقال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( كن في الدنيا كأنك غريب أو عابر سبيل 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وكان ابن عمر يقول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( إذا أمسيت فلا تنتظر الصباح وإذا أصبحت فلا تنتظر المساء 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وخذ من صحتك لمرضك ، ومن حياتك لموتك 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رواه البخاري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907920"/>
            <a:ext cx="88549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ـطعـــت شهـــور العمــر لـهوا وغـفـــــــلة        ولم تحـــــترم فيمــــــا أتيت المحــــــــــرّم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لا رجــب وافــــــــــيت فـيه بـــحـــــــقه        ولا صمت شهر الصـــوم صوما متمم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لا في ليــالي عشر ذي الحــــــــجــة الذي       مضى كنت قـواما ولا كنت محــــــــرم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هــــل لك أن تمــــــحي الذنـــــــوب بـعـبرة       وتبكـي عـليها حســرة وتنــــــــــدمــــ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تسـتـــــــقبل العــــــــام الجـــــديـد بتوبـــة       لعـلك أن تمحـوا بـها ما تقـــــــــــــــد مــا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"/>
              </a:rPr>
              <a:t>قيل لنوح عليه السلام، وقد لبث مع قومه ألف سنة إلا خمسين عاماً: كيف رأيت هذه الدنيا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"/>
              </a:rPr>
              <a:t> </a:t>
            </a: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"/>
              </a:rPr>
              <a:t>فقال: كداخل </a:t>
            </a: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"/>
              </a:rPr>
              <a:t>من باب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DecoType Naskh"/>
              </a:rPr>
              <a:t> وخارج من آخر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4" dur="9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912" fill="hold">
                                          <p:stCondLst>
                                            <p:cond delay="9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12" autoRev="1" fill="hold">
                                          <p:stCondLst>
                                            <p:cond delay="9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404640"/>
            <a:ext cx="88200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الفرح بقطع الأيام والأعوام دون اعتبار وحساب لما كان فيها ويكون بعد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هو من البيع المغبون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فالعاقل من اتعظ بأمسه، واجتهد في يومه، واستعد لغد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DecoType Naskh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2133720"/>
            <a:ext cx="71276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من تفكر في عواقب الدنيا أخذ الحذر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أيقن بطول الطريق تأهب للسفر،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ما أعجب أمرك يا من يُوقن بأمر ثم ينساه 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يتحقق ضرراً حالاًَّ ثم يغشاه 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تغلبكَ نفسُك على ما تظن ، ولا تغلبها على ماتستيقن !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24000" y="1125360"/>
            <a:ext cx="471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قال ابن الجوزي رحمه الله تعا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4360" y="981000"/>
            <a:ext cx="7920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اجعل جل اهتمامك بالآخرة يزح الله به باقي الهموم ليصفو القلب لله تعال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إن كان في بحر من الابتلاء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صلى الله عليه وسل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( من جعل الهموم هما واحدا هم المعاد كفاه الله سائر همومه 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تشعبت به الهموم من أحوال الدني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لم يبال الله في أي أوديتها هلك 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8360" y="333360"/>
            <a:ext cx="82072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Thuluth"/>
              </a:rPr>
              <a:t>تجارة الآخرة لا تبور .. والتهافت على الدنيا لا يغير المقد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DecoType Naskh"/>
              </a:rPr>
              <a:t> قال صلى الله عليه وسل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DecoType Naskh"/>
              </a:rPr>
              <a:t>( من كانت الآخرة همه ،جعل الله غناه في قلبه ، وجمع له شمله 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أتته الدنيا وهي راغمة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من كانت الدنيا هم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جعل الله فقره بين عينيه ، وفرق عليه شمله 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لم يأته من الدنيا إلا ما قدر له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964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4560" y="2133720"/>
            <a:ext cx="8569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ما مـــــــــضى كان همساتُ مُشْفِــــق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وكلماتُ ناصـــــــــــــــح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فإن يكن زل لساني عن صواب فاعذروني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أو يكن واقع سوءاً سامحوني </a:t>
            </a:r>
            <a:r>
              <a:rPr b="1" lang="ar-SA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ف الله الله في المسامح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واعذروني على التقصير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ar-SA" sz="2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8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6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3000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3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577280" y="171612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066760"/>
            <a:ext cx="799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ونحن في أواخر مراحل هذا العام ولا ندري أندرك عامنا الجديد أم يحول  المنون بيننا وبين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إليك هذه الوقف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أسأل الله تعالى أن تجد لها في قلبك موضعا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6000" y="692280"/>
            <a:ext cx="4608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Thuluth"/>
              </a:rPr>
              <a:t>بسم الله الرحمن الرح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16000" y="1268280"/>
            <a:ext cx="68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يا نفس لله توبي  واستغفري من ذنوبي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فقد بدت  شمس عامي  تميل نحو  الغروب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59280" y="3084480"/>
            <a:ext cx="412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595440"/>
            <a:ext cx="7921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نسير إلى الآجال في كل لحـظة  *** وأعمارنا تطــوى وهن مــرا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ترحل من الدنيا بزاد من التقى *** فعمـــرك أيـــــــام وهــنّ قــــــلائـ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وما هذه الأيام إلا مــــــراحــل  *** يحث بها حاد إلى الموت قاص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وأعجب شيء لو تأملت أنها *** منازل تطـوى والمســـافر قــــاع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6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6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4360" y="1125360"/>
            <a:ext cx="691200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Traditional Arabic"/>
              </a:rPr>
              <a:t>قال علي بن أبي طالب رضي الله تعالى عنه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(ارتحلت الدنيا مدبرة وارتحلت الآخرة مقبل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لكل واحدة منها بنون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فكونوا من أبناء الآخرة، ولا تكونوا من أبناء الدنيا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فإن اليوم عمل ولا حساب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غداً حساب ولا عمل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خرجه البخاري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3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3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3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3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3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3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333360"/>
            <a:ext cx="820728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الفضيل بن عياض لرجل : كم أتى عليك ؟ قال : ستون سن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: فأنت منذ ستين سنة تسير إلى ربك يوشك أن تبلغ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قال الرجل : إنا لله و إنا إليه راجعو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الفضيل : أتعرف تفسيره تقول : إنا لله و إنا إليه راجعون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فمن علم أنه لله عبد وأنه إليه راجع فليعلم أنه موقوف ، ومن علم أنه موقوف 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فليعلم أنه مسئول ، فليعد للسؤال جوابا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قال الرجل : فما الحيلة 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: يسيرة . قال: ما هي 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قال : تحسن فيما بقي يغفر لك ما مضى 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إنك إن أسأت فيما بقي ، أُخذت بما مضى وما بقي والأعمال بالخواتيم .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5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4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7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0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3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6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9" dur="2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2" dur="20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5950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260280"/>
            <a:ext cx="7848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1341360"/>
            <a:ext cx="51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وأنت تسير في هذه الدنيا .. هناك يوم سيتوقف المسير وتحط بك القافلة ولكن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130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Thuluth"/>
              </a:rPr>
              <a:t>إذا أنت لم ترحلْ بزادٍ من التقى     ولاقيتَ بعد الموتِ من قد تزود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Thuluth"/>
              </a:rPr>
              <a:t>ندمتَ على ألا تكون كمثـــــــلِه      وأنك لم ترصدْ كما كان أرصد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260280"/>
            <a:ext cx="91440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تمر ســاعـات أيـــامي بلا نــــــــدم           ولا بـكاء ولا خـوف ولا حــــــز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ما أحلم الله عني حيث أمـــهـلني          وقد تمـاديت في ذنبـي ويســـــــــــترنـ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أنا الذي أغلق الأبواب مجتهــــــدا          على المعاصي وعين الله تنظــــــــــــرني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دعني أنوح على نفسي وأنـدبــهـــا          وأقطع الدهــــــر بالتـــسبيح والحـــز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دعني أسح دموعا لا انقطـاع لـها         فهل عسـى عـبـــــرة منـي تخـــــلــصـن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11280" y="1413000"/>
            <a:ext cx="78483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إنـا لنفرح بالأيام نقطـعــــــــــــــــها      وكل يوم مضى يدني من الأجـل 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فاعمل لنفسك قبل الموت مجتهـداً       فـــإنما الربــح والخسران في العمل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7T13:59:49Z</dcterms:created>
  <dc:creator>Al-Mshikhi</dc:creator>
  <dc:description/>
  <dc:language>en-US</dc:language>
  <cp:lastModifiedBy>sjuhaifa</cp:lastModifiedBy>
  <dcterms:modified xsi:type="dcterms:W3CDTF">2007-01-22T04:32:59Z</dcterms:modified>
  <cp:revision>61</cp:revision>
  <dc:subject/>
  <dc:title>الشريحة 1</dc:title>
</cp:coreProperties>
</file>